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7E2D-C580-415D-B645-B35DBECD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C1AF-5F6C-431A-859C-9F5BC56B8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588-7C19-4B7B-B256-7C172060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261-FDF7-4E36-84F5-DF64E3CB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324-74A5-43CC-8C40-156CC472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C91-8675-4604-9B35-72A519CB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5F1-48D4-46F1-A5D7-2B9167F3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FA1-090E-425C-A1D1-CF611CC2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F76-7B70-4622-8657-892D07A9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029-61AC-4269-B790-62296A72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94D-3757-4929-9EC0-EDB13CD2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57A-664B-4363-ABA2-BE45F8B7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891-5F52-4FAF-99D6-1ACEE392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2E5-7657-42D4-802E-45C85570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4F7C-6063-4EC3-9961-45ED4DC36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please.com/atlas/country/lebanon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Map of Lebanon">
            <a:hlinkClick r:id="rId2"/>
          </p:cNvPr>
          <p:cNvPicPr/>
          <p:nvPr/>
        </p:nvPicPr>
        <p:blipFill>
          <a:blip r:embed="rId3"/>
          <a:srcRect l="12000" t="0" r="9512" b="19459"/>
          <a:stretch/>
        </p:blipFill>
        <p:spPr>
          <a:xfrm>
            <a:off x="3657600" y="1371600"/>
            <a:ext cx="2743200" cy="241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http://www.lib.utexas.edu/maps/middle_east_and_asia/middle_east_pol_1976.jpg"/>
          <p:cNvPicPr/>
          <p:nvPr/>
        </p:nvPicPr>
        <p:blipFill>
          <a:blip r:embed="rId4"/>
          <a:stretch/>
        </p:blipFill>
        <p:spPr>
          <a:xfrm>
            <a:off x="6134040" y="0"/>
            <a:ext cx="300996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0" y="1447920"/>
            <a:ext cx="3581280" cy="283716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Dem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pit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ir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ngu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elig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lam 60%, Christianity 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iteracy Rate: 8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atural Resourc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mestone, salt,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 flipV="1">
            <a:off x="457200" y="388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48520" y="2438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gion of Leba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Flag of Lebanon"/>
          <p:cNvPicPr/>
          <p:nvPr/>
        </p:nvPicPr>
        <p:blipFill>
          <a:blip r:embed="rId5"/>
          <a:stretch/>
        </p:blipFill>
        <p:spPr>
          <a:xfrm>
            <a:off x="0" y="0"/>
            <a:ext cx="2381400" cy="1467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2"/>
          <p:cNvSpPr/>
          <p:nvPr/>
        </p:nvSpPr>
        <p:spPr>
          <a:xfrm>
            <a:off x="2895480" y="457200"/>
            <a:ext cx="3048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LEBA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An awsome place to l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962520" y="1828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of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http://www.un.int/wcm/webdav/site/lebanon/shared/images/Beyrouth.jpg"/>
          <p:cNvPicPr/>
          <p:nvPr/>
        </p:nvPicPr>
        <p:blipFill>
          <a:blip r:embed="rId6"/>
          <a:srcRect l="7253" t="3640" r="10536" b="12348"/>
          <a:stretch/>
        </p:blipFill>
        <p:spPr>
          <a:xfrm>
            <a:off x="5791320" y="3352680"/>
            <a:ext cx="2928960" cy="1981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7"/>
          <p:cNvSpPr/>
          <p:nvPr/>
        </p:nvSpPr>
        <p:spPr>
          <a:xfrm>
            <a:off x="5486400" y="5410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Beautiful Country of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http://www.paragkhanna.com/wp-content/uploads/2010/12/lebanon-1.jpg"/>
          <p:cNvPicPr/>
          <p:nvPr/>
        </p:nvPicPr>
        <p:blipFill>
          <a:blip r:embed="rId7"/>
          <a:srcRect l="10300" t="0" r="12449" b="47200"/>
          <a:stretch/>
        </p:blipFill>
        <p:spPr>
          <a:xfrm>
            <a:off x="0" y="396252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609480" y="62485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Snowy Mountains in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6488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Cody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16"/>
          <p:cNvCxnSpPr/>
          <p:nvPr/>
        </p:nvCxnSpPr>
        <p:spPr>
          <a:xfrm flipH="1" flipV="1">
            <a:off x="7009560" y="1294560"/>
            <a:ext cx="30564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17"/>
          <p:cNvSpPr/>
          <p:nvPr/>
        </p:nvSpPr>
        <p:spPr>
          <a:xfrm>
            <a:off x="739152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8" descr="http://t0.gstatic.com/images?q=tbn:ANd9GcQP_61xXFrggd6TTIXV4Q5GUv81SY0jdTz8CFc3IIm4FERPZM3bnw"/>
          <p:cNvPicPr/>
          <p:nvPr/>
        </p:nvPicPr>
        <p:blipFill>
          <a:blip r:embed="rId8"/>
          <a:stretch/>
        </p:blipFill>
        <p:spPr>
          <a:xfrm>
            <a:off x="2743200" y="3886200"/>
            <a:ext cx="2895480" cy="1581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7"/>
          <p:cNvSpPr/>
          <p:nvPr/>
        </p:nvSpPr>
        <p:spPr>
          <a:xfrm>
            <a:off x="274320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Cinquante=-money in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21:23:31Z</dcterms:modified>
  <cp:revision>26</cp:revision>
  <dc:subject/>
  <dc:title>Slide 1</dc:title>
</cp:coreProperties>
</file>